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move the slid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F3557-FEEB-4C3F-A181-1742C7DE23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A18C-4802-461E-9879-760050FA4559}" type="slidenum">
              <a:rPr b="0" lang="en-US" sz="1200" spc="-1" strike="noStrike">
                <a:solidFill>
                  <a:srgbClr val="1a1a1a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09368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98200" y="4375080"/>
            <a:ext cx="5016600" cy="407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B99B-0ED7-4025-A370-6BDD7854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9F1-3C30-4950-AC91-3EB797DA2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6A4719-8A34-41A1-8821-0DA5E1631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619BC-F27D-42F1-8216-B7A11CC09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3C9F42-214F-457A-86B2-B98677D3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D8B5C6-6A2C-4771-8A19-298519B4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0AE10-A009-4B9E-9770-835DAE954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B5F81-5B97-4259-8808-E718FF971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11D1E-9DD5-4109-A33D-816C15B7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3890B5-E038-493E-8525-7AFB2B45B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75A1C-CF29-407C-9C0F-978DD3866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B4F0D-2BB4-45C9-B29E-EDC9756C3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E5EE-D04C-4386-B1BC-9BB5C9F89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17E071-0597-4093-893D-8077EF04B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300432-B33C-4474-932C-3385B1B9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29B5A7-6361-4562-9BBF-64986DC6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3BDE-8324-45B2-A904-4CCC82210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E691C-2E66-4E40-AB00-FFB615760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D96E3-EA6E-4D80-A4F6-F934627AD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29CB1-48C1-48BD-8326-95CC1BDB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8E37F-6E8F-4C3A-A41B-A84F6C179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92AE7-142A-4DEC-B43C-AFCEC633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32C9B-68A2-4763-91E4-619C77717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D5E6-7730-4A21-8E40-10BC7F54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6AAAA-96BF-41D6-9A49-3069D2C47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2EFAA2-3907-49F3-86E5-28377651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C709C-6CC1-41D1-952B-34B4914B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F197E-9CF2-4092-A8C9-985E5FB3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51EF3-07F5-46BC-A108-55B05FFC7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11C540-61CE-48C9-83A2-19FB9347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DE42F2-9404-454F-8631-E350298D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C1603-A3E1-40C1-A9CF-535DAC15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EB44F-1370-46E8-A1A4-D677B079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A350BD-4189-4644-ACE9-1FEE80CD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F2FCC-6579-4C46-AFDF-3D5791393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20E296-D190-41DA-B1A1-A76C5256D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A0030-CABF-44C4-B28B-D01F7A194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4678A-27CB-42BB-85A5-7E2C0BA30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4D54E-A824-4C05-BBC0-A193E09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5698DC-659E-4015-9FB8-7776919C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56961-49FB-432C-AB9B-58B845F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CB2B37-0C41-44AA-AE4E-CAF385529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EA6D0-3D38-451F-82ED-97A46E524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F3A42-3104-4588-821F-5BE7C2A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DB5C3D-0775-4734-BF01-26B32913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03E39-135C-437F-91CE-45570F21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68F68-CCF6-4EC4-8EFF-00A2D00C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6506F2-EE92-4F3A-9D09-86FDE69FD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1F8FE-09DF-46FD-ACD7-000525DC1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58A70-BB80-42D9-8708-0AF731A3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F8DD9-7766-45F6-8A78-24742D42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511D4-AEBF-4F25-8CC3-5259C9D59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8BB0D2-8049-4BE3-A1EE-CD334679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CE3F2-2A93-4EFC-BBC5-60B2472B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F0F23-328A-4B6F-B9A5-D156EBA7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88D05D-CBF3-4566-921F-F9DB790C8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8AEA17-EE8A-4634-85E4-B7F37BD7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D285DE-2CF6-4DD8-A7F8-5B8E130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E261E-1798-452F-A1B9-5BD578EA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F1D53F-85FD-45FE-B037-0E9C124CF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F80200-06B1-4DF3-8B80-002641832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8F17A-22BB-4752-8E2B-C192CD067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4B89E-E395-4FD1-8DA4-8AD8FC004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C0CDA1-3285-4372-9210-25504AF85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EAB6C-2F74-46BB-9989-5E1B4B471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593B-EDDF-4D1A-BEC0-38C58388D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44E15-97CD-4869-976E-BD476192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74C26-0984-400A-A309-1A9DDE68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8A7953-4116-422A-A79C-9ADAA206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5771B8-AFC7-4485-87BF-53788B5A9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DB8A37-ED11-474D-9B43-E3C0C389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A8B0E7-98DB-464E-B333-92E2C0D96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8D5E5-112C-4EC3-B8D5-CD488A3E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106A16-0EC8-4CE1-BC3C-CC1EBED8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B34C6C-5CF9-4721-A2DE-7A53FDB2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15C9B-51E2-4EEF-A5D4-2B05858A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25090-FBAB-450A-A63B-76A622E53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43155-7470-41CD-92FF-E464C74A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A60730-0215-47B9-81A1-D43E071B2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9A2118-F0C5-418F-9589-D63D350C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8599F-4A89-4E6A-BAC7-31697E8E2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45D357-99BA-4C49-8BE8-D6B88E3B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08343-5FEE-4D01-829E-A4DA1723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562B63-2193-413E-9134-0F8FB3475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A49FB-4346-4C42-BBFD-5059172EA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E25B36-4B88-49CB-ACAB-CF57ED86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C4BEB9-AEE3-4BEC-A462-4B9EC5E1B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6E7483-3A47-46F7-A98E-4681A30B2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D133F2-78A9-4F0F-AF7A-99AE82CD1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804B8C-6028-4EE5-813E-53D36934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A3DA1-9B2C-4E50-86B8-833D60FE5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4719B9-3AC5-4CEF-B902-1364C9F8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3EC2-B2F1-4EB7-BD63-8F012C99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5461C3-5362-4D8E-A354-82BB804D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F0DBD5-8E1D-41AC-8FA1-3593F3F2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6E98B6-E4CF-451E-A241-C71B5FDB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502378-7BB8-4DD5-B836-522D1B6F5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BEE54A-3FA7-4485-9986-FEEF1DFE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447325-8AF3-4025-9D30-6D686CABD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F51009-0FF3-4DF6-9D36-0B3CDB80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6E8EA5-7893-4EEF-BCCF-19D36086B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00A5A-F540-44C7-87E3-FCDBE2FB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49C9F2-3F75-49D7-88E5-2FB6FCD67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2F02C1-3A42-469F-B99E-BB01C5A4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D4B7B1-FFB0-4CD3-B2ED-B36DB0781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35F168-C7D7-406A-BD46-DBB5857E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54C056-5CC6-4D2D-84D6-F46A8847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8D3518-3035-4EB1-B351-380A2DB5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F8FA7-1099-49D0-81E3-DE0396C2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2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43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044B9D-E734-4D3D-BD13-2D1D08B0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80D9-66DC-450E-9781-F3C69CF6C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98A9-FB2D-4D2E-9871-C905038E2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02FB-E0B5-4573-B7B4-A4F4B4F93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1D51-49C2-4E6D-A0F5-67C8A0ADC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BDB9-65C2-42E9-8DBF-349E6CF7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8156B-056D-4BF6-AB6A-35C7CD0DA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C3FF-A138-402E-B41F-7892CA3EC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45667-92BC-434D-94C4-5AAC289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529E-423E-470B-9039-9F6D641D9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54EB2-979E-4428-B8D2-C04200F8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908E-FDEE-4F8D-AEF0-3491F2D1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60D64-15D0-451F-A5B6-42DFEE17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FBE9E-FF33-47F4-BABB-85313E3B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A9E4A-EAD0-4838-9AE5-AE9FAAAF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FA44-3803-4007-84A5-6B9FA85D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CB92-D79D-453E-B950-3C80FFD8F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85006-F0DF-4496-B457-D27740E94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07464-E908-4D0E-8634-3D42C90D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70362-683A-432C-A059-97C17781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22AEE-3F83-4134-8C64-71D4D48FC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F9DBB3-0525-4B3B-BA94-AAF4B959E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27821-3447-4A74-B8FD-967A77455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9F0EC-9726-43F6-B816-DB17A97F2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DB5CE-509D-4F4F-A6BE-A2A20D20A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83F550-8E40-46BB-B3D5-D0DE191E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7668-1578-424D-9CA8-FEA6485A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2BA1E-E542-4C90-B031-5D3BD58F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C8DFA-0B71-458D-9D76-DE05DEE19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D89C8-B62A-48DD-A4E9-BCD84952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65ABE-6396-45BA-9CCE-3D44CDC17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121F2-506E-4EC2-A053-4AA3D717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C8CB7-182C-4570-BBFC-5ED0B95D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9F1EC-F19C-43DF-9064-81A504AC6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77A06-74A7-4702-81A6-0F943388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49EDC9-8855-493E-AED8-8A1D946B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DB6D9-53BB-43F4-85EC-A22E3D1B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D808-3453-4DBF-9F91-3DD07B59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BEEC-6D8E-4800-BEFD-48CB3648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103A3-F81F-42F0-A09E-A42EB8C15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93ED-725E-4B3E-887E-064B130F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0B08-FD46-4831-9146-990E051DB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78F2A-1057-44BF-8BE6-FEC9ED2FA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43578-A24C-4A3E-A2B5-AC6006B10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BA5B37-DEF3-4771-A17D-0219BEF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C4E22-D4C7-4249-85F4-F57B76BE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623D9A-4BB0-40B8-BF1E-556EACABD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942EE-D1E3-42D4-B801-BA8F423E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41ED-D719-4019-87E3-FC2D8AD60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766800" y="-152532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algn="ctr">
              <a:lnSpc>
                <a:spcPts val="36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9784C-2F82-4E0E-BB95-08145BAA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4974-13AD-42C8-80AC-4E55353B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25CE7-3871-47AF-B653-44FD9E98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2D7A0-BD02-470D-8DE4-F1F7C9BF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777960" y="3966120"/>
            <a:ext cx="75866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4835-E93B-41F4-B135-659F7EEA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5600" y="138744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77796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65600" y="3966120"/>
            <a:ext cx="370224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97DEA2-FC1F-4032-AB75-96D252B2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34296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08320" y="138744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777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34296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5908320" y="3966120"/>
            <a:ext cx="2442600" cy="235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9FD649-C4D7-4B0D-A963-8136B2D15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DB74-74A0-45A3-925F-D999343E2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777960" y="-30240"/>
            <a:ext cx="7586640" cy="777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930560" indent="0" algn="ctr">
              <a:lnSpc>
                <a:spcPts val="3600"/>
              </a:lnSpc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E88F3-0E88-4C41-A49D-1E4871B38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49654-2883-44FA-93AB-CA016EF8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hyperlink" Target="http://www.international-pain-school.org/" TargetMode="External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D023-D3E9-4404-8314-52B4D0282F63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ounded Rectangle 5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19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1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A21-FCB4-436E-ADCD-2ECC6919FA4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2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3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4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26A6D-BCA1-4F0B-A22F-CED5131FCF4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ounded Rectangle 2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25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26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27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CD2A-1C35-4F22-AF57-FF59FAA2A7FA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B3A65-50DB-4EB4-8144-ACD836392445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1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2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3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FA8B-4317-44DD-BD0E-F4A20C348DD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 type="dt" idx="3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 type="ftr" idx="3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 type="sldNum" idx="3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936E-3EDD-4A8D-85CB-2333FB97757D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dt" idx="3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ftr" idx="3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 type="sldNum" idx="3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6B29-0BDA-4729-BA96-B85C2F526D6C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ounded Rectangle 3"/>
          <p:cNvSpPr/>
          <p:nvPr/>
        </p:nvSpPr>
        <p:spPr>
          <a:xfrm rot="5400000">
            <a:off x="7739280" y="-27720"/>
            <a:ext cx="43524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dt" idx="4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4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 type="sldNum" idx="4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00A56-3812-4A69-8E71-C25B5F075D07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Box 1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858585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858585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858585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5" name="Rounded Rectangle 2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6" name="TextBox 3"/>
          <p:cNvSpPr/>
          <p:nvPr/>
        </p:nvSpPr>
        <p:spPr>
          <a:xfrm>
            <a:off x="777960" y="4487760"/>
            <a:ext cx="758664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Open Sans"/>
              </a:rPr>
              <a:t>More lectures and further information can be found on our project website.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400" spc="-1" strike="noStrike" u="sng">
                <a:solidFill>
                  <a:srgbClr val="008bcb"/>
                </a:solidFill>
                <a:uFillTx/>
                <a:latin typeface="Open Sans"/>
                <a:hlinkClick r:id="rId2"/>
              </a:rPr>
              <a:t>www.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Open Sans"/>
              </a:rPr>
              <a:t>© 2013 international-pain-school.org</a:t>
            </a: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  <a:p>
            <a:pPr>
              <a:lnSpc>
                <a:spcPts val="18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14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607680" y="3475440"/>
            <a:ext cx="69015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600" spc="-1" strike="noStrike">
                <a:solidFill>
                  <a:srgbClr val="1a1a1a"/>
                </a:solidFill>
                <a:latin typeface="Open Sans Light"/>
              </a:rPr>
              <a:t>International</a:t>
            </a:r>
            <a:r>
              <a:rPr b="0" lang="de-DE" sz="4600" spc="-1" strike="noStrike">
                <a:solidFill>
                  <a:srgbClr val="1a1a1a"/>
                </a:solidFill>
                <a:latin typeface="Open Sans"/>
              </a:rPr>
              <a:t> </a:t>
            </a:r>
            <a:r>
              <a:rPr b="0" lang="de-DE" sz="4600" spc="-1" strike="noStrike">
                <a:solidFill>
                  <a:srgbClr val="333333"/>
                </a:solidFill>
                <a:latin typeface="Open Sans Bold"/>
              </a:rPr>
              <a:t>Pain School</a:t>
            </a:r>
            <a:endParaRPr b="0" lang="en-US" sz="46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2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ounded Rectangle 4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ounded Rectangle 3"/>
          <p:cNvSpPr/>
          <p:nvPr/>
        </p:nvSpPr>
        <p:spPr>
          <a:xfrm>
            <a:off x="-66600" y="3686040"/>
            <a:ext cx="649080" cy="33840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4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5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6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8A2C-FA9F-4A01-BE52-2926C15D1644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7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8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9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D00B5-8979-4E42-9C2D-C2CBFB12B736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ounded Rectangle 3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0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1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2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2707-8E0B-4C45-A446-450DEEA809C2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3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4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5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7682-86A3-40E0-A3CE-CBD7CA1748CB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ounded Rectangle 6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Click to edit the title text format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9280" indent="103751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Click to edit the outline text format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33192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con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2" marL="1143000" indent="-22860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Third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3" marL="1600200" indent="-22860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our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4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Fif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5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ix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lvl="6" marL="2057400" indent="-228600">
              <a:lnSpc>
                <a:spcPts val="3600"/>
              </a:lnSpc>
              <a:buClr>
                <a:srgbClr val="1a1a1a"/>
              </a:buClr>
              <a:buFont typeface="Arial"/>
              <a:buChar char="»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400" spc="-1" strike="noStrike">
                <a:solidFill>
                  <a:srgbClr val="1a1a1a"/>
                </a:solidFill>
                <a:latin typeface="Open Sans"/>
              </a:rPr>
              <a:t>Seventh Outline Level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6"/>
          </p:nvPr>
        </p:nvSpPr>
        <p:spPr>
          <a:xfrm>
            <a:off x="777600" y="6443640"/>
            <a:ext cx="2143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17"/>
          </p:nvPr>
        </p:nvSpPr>
        <p:spPr>
          <a:xfrm>
            <a:off x="3115800" y="6443640"/>
            <a:ext cx="29149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18"/>
          </p:nvPr>
        </p:nvSpPr>
        <p:spPr>
          <a:xfrm>
            <a:off x="6226200" y="6443640"/>
            <a:ext cx="21384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8bc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25C-5487-4FE9-8E5B-06B092C3BC40}" type="slidenum">
              <a:rPr b="0" lang="en-US" sz="1200" spc="-1" strike="noStrike">
                <a:solidFill>
                  <a:srgbClr val="008bc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Integration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can be a part of symptom management from the time of diagnosi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there are no curative options, focus medications and treatments on comfort only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osing of pain medication, such as opioids, has no upper limit-especially at then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reat all aspects of the patient as their greatest suffering may not be from physical pai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Remember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only requires attention to what the patient needs, regular re-assessment, and access to medication.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igh-quality palliative care does not require any high-tech materials or equipmen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one can provide palliative care to those in need, especially at the end of lif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685800" y="45720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Open Sans Semibold"/>
              </a:rPr>
              <a:t>This talk was originally prepared by: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7" name=""/>
          <p:cNvSpPr/>
          <p:nvPr/>
        </p:nvSpPr>
        <p:spPr>
          <a:xfrm>
            <a:off x="468360" y="1676520"/>
            <a:ext cx="842472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84000"/>
          </a:bodyPr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1a1a1a"/>
                </a:solidFill>
                <a:latin typeface="Open Sans"/>
                <a:ea typeface="Times New Roman"/>
              </a:rPr>
              <a:t>Jamie Laubisch MD &amp; Justin Baker MD</a:t>
            </a:r>
            <a:endParaRPr b="0" lang="en-US" sz="36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  <a:p>
            <a:pPr marL="150480" indent="7878600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   </a:t>
            </a:r>
            <a:r>
              <a:rPr b="0" i="1" lang="en-US" sz="2400" spc="-1" strike="noStrike">
                <a:solidFill>
                  <a:srgbClr val="1a1a1a"/>
                </a:solidFill>
                <a:latin typeface="Open Sans"/>
                <a:ea typeface="Times New Roman"/>
              </a:rPr>
              <a:t>Memphis, USA</a:t>
            </a:r>
            <a:endParaRPr b="0" lang="en-US" sz="24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29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0" name="Text Box 8"/>
          <p:cNvSpPr/>
          <p:nvPr/>
        </p:nvSpPr>
        <p:spPr>
          <a:xfrm>
            <a:off x="611280" y="90792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Calibri"/>
              </a:rPr>
              <a:t>Talks in the International Pain School include the following: 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31" name="Rectangle 10"/>
          <p:cNvSpPr/>
          <p:nvPr/>
        </p:nvSpPr>
        <p:spPr>
          <a:xfrm>
            <a:off x="609480" y="38088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Arial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graphicFrame>
        <p:nvGraphicFramePr>
          <p:cNvPr id="832" name=""/>
          <p:cNvGraphicFramePr/>
          <p:nvPr/>
        </p:nvGraphicFramePr>
        <p:xfrm>
          <a:off x="684360" y="1266840"/>
          <a:ext cx="7696080" cy="4983120"/>
        </p:xfrm>
        <a:graphic>
          <a:graphicData uri="http://schemas.openxmlformats.org/drawingml/2006/table">
            <a:tbl>
              <a:tblPr/>
              <a:tblGrid>
                <a:gridCol w="4260600"/>
                <a:gridCol w="3435480"/>
              </a:tblGrid>
              <a:tr h="38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hysiology and pathophysiology of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ilesh Patel, PhD, Keny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sessment of pain &amp;  taking a pain histor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Yohannes Woubished, M.D, Addis Ababa, Ethiop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linical pharmacology of analgesic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d non-pharmacological treatment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Ramani Vijayan, M.D. Kuala Lumpur, Malaysi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 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ominique Fletcher, M.D, Garches &amp; Xavier Lassalle, RN, MSF, Paris, Franc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toperative– high treatment technology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Narinder Rawal, M.D. PhD, FRCA(Hon), Orebro, Swede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Cancer pain–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Barbara Kleinmann, MD, Freiburg, Germany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ancer pain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Doralina Anghelescu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lliative Care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Jamie Laubisch MD, Justin Baker MD, Memphis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- low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D, Helsinki &amp; Aki Hietaharju,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europathic pain – high technology treatment method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Maija Haanpää, M.D., Helsinki &amp; Aki Hietaharju, M.D.,  Tampere, Finland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sychological aspects of managing pain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Etleva Gjoni, Germany 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ecial Management Challenges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200" spc="-1" strike="noStrike">
                          <a:solidFill>
                            <a:srgbClr val="1a1a1a"/>
                          </a:solidFill>
                          <a:latin typeface="Arial"/>
                          <a:ea typeface="Times New Roman"/>
                        </a:rPr>
                        <a:t>Debra Gordon, RN, DNP, FAAN, Seattle, USA</a:t>
                      </a:r>
                      <a:endParaRPr b="0" lang="en-US" sz="1200" spc="-1" strike="noStrike">
                        <a:solidFill>
                          <a:srgbClr val="1a1a1a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2"/>
          <p:cNvSpPr/>
          <p:nvPr/>
        </p:nvSpPr>
        <p:spPr>
          <a:xfrm>
            <a:off x="766800" y="439560"/>
            <a:ext cx="75866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77777"/>
                </a:solidFill>
                <a:latin typeface="Open Sans Semibold"/>
              </a:rPr>
              <a:t>International Pain School</a:t>
            </a:r>
            <a:endParaRPr b="0" lang="en-US" sz="3200" spc="-1" strike="noStrike">
              <a:solidFill>
                <a:srgbClr val="1a1a1a"/>
              </a:solidFill>
              <a:latin typeface="Calibri"/>
            </a:endParaRPr>
          </a:p>
        </p:txBody>
      </p:sp>
      <p:pic>
        <p:nvPicPr>
          <p:cNvPr id="834" name="Picture 6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7954920" cy="3325680"/>
          </a:xfrm>
          <a:prstGeom prst="rect">
            <a:avLst/>
          </a:prstGeom>
          <a:ln w="0">
            <a:noFill/>
          </a:ln>
        </p:spPr>
      </p:pic>
      <p:sp>
        <p:nvSpPr>
          <p:cNvPr id="835" name="Rectangle 4"/>
          <p:cNvSpPr/>
          <p:nvPr/>
        </p:nvSpPr>
        <p:spPr>
          <a:xfrm>
            <a:off x="919440" y="198108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77777"/>
                </a:solidFill>
                <a:latin typeface="Arial"/>
                <a:ea typeface="Arial"/>
              </a:rPr>
              <a:t>The project is supported by these organizations:</a:t>
            </a: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2916000" y="4941360"/>
            <a:ext cx="5337000" cy="5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99ff"/>
                </a:solidFill>
                <a:latin typeface="Open Sans"/>
              </a:rPr>
              <a:t>Type in the name of your institution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  <a:p>
            <a:pPr algn="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476000" y="4149720"/>
            <a:ext cx="680076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800" spc="-1" strike="noStrike">
                <a:solidFill>
                  <a:srgbClr val="3399ff"/>
                </a:solidFill>
                <a:latin typeface="Open Sans"/>
              </a:rPr>
              <a:t>Type in your name</a:t>
            </a: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1476000" y="3284280"/>
            <a:ext cx="6800760" cy="79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 algn="r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4600" spc="-1" strike="noStrike">
                <a:solidFill>
                  <a:srgbClr val="1a1a1a"/>
                </a:solidFill>
                <a:latin typeface="Open Sans"/>
              </a:rPr>
              <a:t>Palliative Care</a:t>
            </a:r>
            <a:endParaRPr b="0" lang="en-US" sz="46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  <p:pic>
        <p:nvPicPr>
          <p:cNvPr id="797" name="Picture 6" descr="http://1.bp.blogspot.com/_f2I8sVbYok0/TCAm4wO8HrI/AAAAAAAACCQ/w-9D41FN3OQ/s1600/holding+hands.jpg"/>
          <p:cNvPicPr/>
          <p:nvPr/>
        </p:nvPicPr>
        <p:blipFill>
          <a:blip r:embed="rId1"/>
          <a:srcRect l="5915" t="5843" r="6089" b="6326"/>
          <a:stretch/>
        </p:blipFill>
        <p:spPr>
          <a:xfrm>
            <a:off x="-66600" y="0"/>
            <a:ext cx="9210600" cy="6875640"/>
          </a:xfrm>
          <a:prstGeom prst="rect">
            <a:avLst/>
          </a:prstGeom>
          <a:ln w="0">
            <a:noFill/>
          </a:ln>
        </p:spPr>
      </p:pic>
      <p:sp>
        <p:nvSpPr>
          <p:cNvPr id="798" name="Rounded Rectangle 4"/>
          <p:cNvSpPr/>
          <p:nvPr/>
        </p:nvSpPr>
        <p:spPr>
          <a:xfrm>
            <a:off x="-66600" y="471600"/>
            <a:ext cx="649080" cy="338040"/>
          </a:xfrm>
          <a:prstGeom prst="roundRect">
            <a:avLst>
              <a:gd name="adj" fmla="val 5398"/>
            </a:avLst>
          </a:prstGeom>
          <a:solidFill>
            <a:srgbClr val="008bc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777960" y="2301840"/>
            <a:ext cx="758664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tive total care of the patient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gins at diagnosis, and continues regardless of whether or not a patient receives treatment directed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t the diseas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alth providers must evaluate and alleviate a child's physical, psychological, and social distres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quires a broad interdisciplinary approa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777960" y="1368000"/>
            <a:ext cx="7586640" cy="79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i="1" lang="en-US" sz="2400" spc="-1" strike="noStrike">
                <a:solidFill>
                  <a:srgbClr val="333333"/>
                </a:solidFill>
                <a:latin typeface="Open Sans Semibold"/>
              </a:rPr>
              <a:t>WHO definition of palliative care</a:t>
            </a:r>
            <a:endParaRPr b="0" lang="en-US" sz="24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at is Palliative Care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“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art and science of patient and family-centered care aimed at attending to suffering, promoting healing and improving quality of life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”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he goal is to add life to the patient</a:t>
            </a:r>
            <a:r>
              <a:rPr b="0" lang="ja-JP" sz="2200" spc="-1" strike="noStrike">
                <a:solidFill>
                  <a:srgbClr val="1a1a1a"/>
                </a:solidFill>
                <a:latin typeface="Open Sans"/>
              </a:rPr>
              <a:t>’</a:t>
            </a: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 years, not simply years to the their life …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Why is it so important?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762120" y="114300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e cannot cure or save everyone and we will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ll die someday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When resources are limited or unavailable,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very patient should have the benefit of symptom management, especially at the end of lif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Opioids should be available for all patients to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help alleviate pain and suffering, although not </a:t>
            </a:r>
            <a:br>
              <a:rPr sz="2200"/>
            </a:b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rrently the case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1520" indent="-28152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alliative care and symptom management does not require high-tech medicine, but may be achieved anywhere with education and dedication.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Aspects of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rovide comf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Foster interpersonal relationship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ual support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ereavement car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Totality of Personhood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777960" y="5867280"/>
            <a:ext cx="7586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algn="ctr">
              <a:lnSpc>
                <a:spcPts val="3600"/>
              </a:lnSpc>
              <a:tabLst>
                <a:tab algn="l" pos="0"/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1800" spc="-1" strike="noStrike">
                <a:solidFill>
                  <a:srgbClr val="1a1a1a"/>
                </a:solidFill>
                <a:latin typeface="Open Sans"/>
              </a:rPr>
              <a:t>Goal: to attend to suffering, of any kind, and improve quality of life</a:t>
            </a:r>
            <a:endParaRPr b="0" lang="en-US" sz="1800" spc="-1" strike="noStrike">
              <a:solidFill>
                <a:srgbClr val="1a1a1a"/>
              </a:solidFill>
              <a:latin typeface="Open Sans"/>
            </a:endParaRPr>
          </a:p>
        </p:txBody>
      </p:sp>
      <p:sp>
        <p:nvSpPr>
          <p:cNvPr id="810" name="Oval 4"/>
          <p:cNvSpPr/>
          <p:nvPr/>
        </p:nvSpPr>
        <p:spPr>
          <a:xfrm>
            <a:off x="3352680" y="3352680"/>
            <a:ext cx="2210040" cy="2210040"/>
          </a:xfrm>
          <a:prstGeom prst="ellipse">
            <a:avLst/>
          </a:prstGeom>
          <a:solidFill>
            <a:srgbClr val="df006e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1" name="Oval 3"/>
          <p:cNvSpPr/>
          <p:nvPr/>
        </p:nvSpPr>
        <p:spPr>
          <a:xfrm>
            <a:off x="2514600" y="1905120"/>
            <a:ext cx="2209680" cy="2209680"/>
          </a:xfrm>
          <a:prstGeom prst="ellipse">
            <a:avLst/>
          </a:prstGeom>
          <a:solidFill>
            <a:srgbClr val="604a7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2" name="Oval 5"/>
          <p:cNvSpPr/>
          <p:nvPr/>
        </p:nvSpPr>
        <p:spPr>
          <a:xfrm>
            <a:off x="4191120" y="1905120"/>
            <a:ext cx="2209680" cy="2209680"/>
          </a:xfrm>
          <a:prstGeom prst="ellipse">
            <a:avLst/>
          </a:prstGeom>
          <a:solidFill>
            <a:srgbClr val="008bc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3" name="Text Box 6"/>
          <p:cNvSpPr/>
          <p:nvPr/>
        </p:nvSpPr>
        <p:spPr>
          <a:xfrm>
            <a:off x="990720" y="1721160"/>
            <a:ext cx="152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Relig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990720" y="5150160"/>
            <a:ext cx="1447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ociet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6553080" y="1723680"/>
            <a:ext cx="1676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Culture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6" name="Text Box 9"/>
          <p:cNvSpPr/>
          <p:nvPr/>
        </p:nvSpPr>
        <p:spPr>
          <a:xfrm>
            <a:off x="6248520" y="515016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ducation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7" name="Text Box 10"/>
          <p:cNvSpPr/>
          <p:nvPr/>
        </p:nvSpPr>
        <p:spPr>
          <a:xfrm>
            <a:off x="3048120" y="2795400"/>
            <a:ext cx="114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Body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8" name="Text Box 11"/>
          <p:cNvSpPr/>
          <p:nvPr/>
        </p:nvSpPr>
        <p:spPr>
          <a:xfrm>
            <a:off x="4686480" y="2795400"/>
            <a:ext cx="1218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Mind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3924360" y="4242960"/>
            <a:ext cx="106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pirit</a:t>
            </a:r>
            <a:endParaRPr b="0" lang="en-US" sz="2200" spc="-1" strike="noStrike">
              <a:solidFill>
                <a:srgbClr val="1a1a1a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8240" y="438120"/>
            <a:ext cx="7586640" cy="83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Open Sans Semibold"/>
              </a:rPr>
              <a:t>Barriers to High Quality Palliative Care</a:t>
            </a:r>
            <a:endParaRPr b="0" lang="en-US" sz="3200" spc="-1" strike="noStrike">
              <a:solidFill>
                <a:srgbClr val="333333"/>
              </a:solidFill>
              <a:latin typeface="Open Sans Semibold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777960" y="1387440"/>
            <a:ext cx="758664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Person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Emotionally difficult, taboos, resisting change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System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Access to services, reimbursement, fragmentation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Quality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Deficient education, lack of outcomes research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Technical 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lvl="1" marL="582480" indent="-96840">
              <a:lnSpc>
                <a:spcPts val="3600"/>
              </a:lnSpc>
              <a:buClr>
                <a:srgbClr val="1a1a1a"/>
              </a:buClr>
              <a:buFont typeface="Arial"/>
              <a:buChar char="–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r>
              <a:rPr b="0" lang="en-US" sz="2200" spc="-1" strike="noStrike">
                <a:solidFill>
                  <a:srgbClr val="1a1a1a"/>
                </a:solidFill>
                <a:latin typeface="Open Sans"/>
              </a:rPr>
              <a:t>Lack of appropriate evaluation tools</a:t>
            </a: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  <a:p>
            <a:pPr marL="287280" indent="-287280">
              <a:lnSpc>
                <a:spcPts val="3600"/>
              </a:lnSpc>
              <a:buClr>
                <a:srgbClr val="1a1a1a"/>
              </a:buClr>
              <a:buFont typeface="Arial"/>
              <a:buChar char="•"/>
              <a:tabLst>
                <a:tab algn="l" pos="773280"/>
                <a:tab algn="l" pos="1546200"/>
                <a:tab algn="l" pos="2319480"/>
                <a:tab algn="l" pos="3092400"/>
                <a:tab algn="l" pos="3865680"/>
                <a:tab algn="l" pos="4638600"/>
                <a:tab algn="l" pos="5411880"/>
                <a:tab algn="l" pos="6184800"/>
                <a:tab algn="l" pos="6958080"/>
                <a:tab algn="l" pos="7731000"/>
                <a:tab algn="l" pos="8504280"/>
                <a:tab algn="l" pos="9277200"/>
                <a:tab algn="l" pos="10050480"/>
                <a:tab algn="l" pos="10823400"/>
              </a:tabLst>
            </a:pPr>
            <a:endParaRPr b="0" lang="en-US" sz="2200" spc="-1" strike="noStrike">
              <a:solidFill>
                <a:srgbClr val="1a1a1a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1T21:01:03Z</dcterms:created>
  <dc:creator>SJCRH</dc:creator>
  <dc:description/>
  <dc:language>en-US</dc:language>
  <cp:lastModifiedBy>ruth</cp:lastModifiedBy>
  <dcterms:modified xsi:type="dcterms:W3CDTF">2015-06-15T09:50:54Z</dcterms:modified>
  <cp:revision>37</cp:revision>
  <dc:subject/>
  <dc:title>Palliative Care</dc:title>
</cp:coreProperties>
</file>